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6076473"/>
        <c:axId val="38108955"/>
      </c:barChart>
      <c:catAx>
        <c:axId val="4607647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108955"/>
        <c:crosses val="autoZero"/>
        <c:auto val="1"/>
        <c:lblAlgn val="ctr"/>
        <c:lblOffset val="100"/>
        <c:noMultiLvlLbl val="0"/>
      </c:catAx>
      <c:valAx>
        <c:axId val="3810895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07647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34C9-BD18-4B24-A6AF-56DB9514B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5A80-BC3E-4B55-88EE-B25D334C5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FB66-7789-4E64-AFCC-5BB454DD8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20DC-77B4-4331-A091-A92F8693C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180D-B51F-478B-80DF-A6599FB77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1E5A-40EE-4F73-9684-43AEACA7E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1D78-A00A-4E65-9129-F572FE88E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072F-1E50-4D69-AEB5-A13EA844A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F472-6FE7-465B-96C5-252D89A60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9992-231B-42F1-8AAA-97843C29D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B82A-DD0E-4D4C-B9F7-63D6F9EB9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58DF-8199-4067-9602-7F97B480D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D2419B-1C2F-49EE-9E2F-F2D37F6FEC2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