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618870"/>
        <c:axId val="72349435"/>
      </c:barChart>
      <c:catAx>
        <c:axId val="956188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349435"/>
        <c:crosses val="autoZero"/>
        <c:auto val="1"/>
        <c:lblAlgn val="ctr"/>
        <c:lblOffset val="100"/>
        <c:noMultiLvlLbl val="0"/>
      </c:catAx>
      <c:valAx>
        <c:axId val="723494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188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807E-DF98-4AFA-AE6D-0C10B298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420D-F50C-4EF1-AD7B-DB1F7325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0449-DD14-42CD-BA62-576439FF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3D95-7595-4760-B790-133C4AFB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AC9C-3099-4A82-A2E5-EBE8766E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061C-4B2C-4A93-ABCB-A5927576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2242-BEAB-4F3A-B3C0-72693BE8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9331-4DF8-4CC3-805B-F407BE06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6A8E-8969-408F-9376-5C7C92D4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0720-D35B-4303-9365-F2E9BD8D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D14B-5A56-4E71-A1F6-B33626BE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9EDF-0BD2-4B9E-97F1-B2B6E329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F4662-3290-4BB7-9F1C-5440970B00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