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17442"/>
        <c:axId val="81110199"/>
      </c:barChart>
      <c:catAx>
        <c:axId val="22017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10199"/>
        <c:crosses val="autoZero"/>
        <c:auto val="1"/>
        <c:lblAlgn val="ctr"/>
        <c:lblOffset val="100"/>
        <c:noMultiLvlLbl val="0"/>
      </c:catAx>
      <c:valAx>
        <c:axId val="81110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17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EE5-A4F1-4F56-9F2C-65052D58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B9F-27DC-4AFC-871B-5F12C332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30F-6D49-43B0-A6C4-0794B71D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EDF-D98E-473B-8F1C-919B5985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B01-0439-440A-8661-75D6B3CA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12D-7CDA-4306-9684-C24F0D6C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5C9-3B5B-4604-9237-EE5F6718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291-C64D-4847-AC1E-0F8937D8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639-69A9-422A-A8A2-C3D0A300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4C3-BD70-4307-BEC5-E704A4DE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60C-EC8F-4AE0-A34F-BC8579DA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897-2AD4-4781-B487-DD4EBB2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7006B-B83A-41AF-BE5C-4A9660C801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