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14621"/>
        <c:axId val="20003441"/>
      </c:barChart>
      <c:catAx>
        <c:axId val="11214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03441"/>
        <c:crosses val="autoZero"/>
        <c:auto val="1"/>
        <c:lblAlgn val="ctr"/>
        <c:lblOffset val="100"/>
        <c:noMultiLvlLbl val="0"/>
      </c:catAx>
      <c:valAx>
        <c:axId val="20003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14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907-E944-40F4-AB40-79E3FDE3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C63-FF9F-4CA0-BFB4-A3BE6E1D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8BE-346D-4642-9152-1AB10018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716-0E48-4833-B69D-485BFB42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0A2-DE14-4874-8144-6DE91A38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AC9-C080-4648-A90A-D5C18709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FBB-9B74-486A-BC72-4062B52B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6CF-6C90-42AC-827A-FE1BBA06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DD2-5069-4FC2-BB5C-1520C96F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1F3-3B3D-4E91-B289-DBDFA7D8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A4D-1AB1-4564-9FA2-BD8DBC00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220-37CF-4290-94DE-CCAEB802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98211-D78C-4474-8F3A-4EF2EFDB14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