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51803"/>
        <c:axId val="91372310"/>
      </c:barChart>
      <c:catAx>
        <c:axId val="19351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2310"/>
        <c:crosses val="autoZero"/>
        <c:auto val="1"/>
        <c:lblAlgn val="ctr"/>
        <c:lblOffset val="100"/>
        <c:noMultiLvlLbl val="0"/>
      </c:catAx>
      <c:valAx>
        <c:axId val="91372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51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0CE-80C8-4BE3-8B5F-0750991C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665-1EA7-4B65-82CC-0E589E47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59A-8B70-40CE-92D5-2BF9887F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4BB-2018-49C5-9059-504980C6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6F2-281F-4403-9200-8E955745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9C3-A34F-4B9D-8A7A-6A5BFC0A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431-56E4-44C0-9592-338B2173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676-96C8-4C3D-B1C1-257324E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ECD-C26B-497F-95FC-B46A0D19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65B-E9E4-49F0-8832-402E233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279-CDAF-4E2D-BB0E-D576FB7F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958-5A1F-4602-AC12-FDA54AC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BA60D-D1B5-422E-8476-5CA8B959F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